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29C-E11C-43C5-B938-F56A65EA014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liity (105 kp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0002-165D-49E6-AC92-2A732F3E1676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Huom. 105 toimenpidettä ei pystytty selkeästi kytkemään mihinkään tavoittee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Rakennusten energiankulutus ja liik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D742-6764-4142-88F3-C9D96FCE153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lintarvikkeisiin, ravintoloihin tai syömiseen yleensä ei juuri löytynyt toimenpiteitä, vaikka tämä on yksittäisen kansalaisen osalta suurimpia hiilijalanjäljen aiheuttaj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BE15-4C07-46CA-985E-AE882BF75585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C40-D560-435C-B494-1784DB92645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Mihin päästölähteeseen toimenpiteet liittyvä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B7AE-435C-49E1-8B0D-7A8AD76D04B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päällekkäisyyt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487C-CF67-4304-91E2-A10EB97A2F9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hmisten arvojen ja tieteellisen tiedon keräämiseen, koostamiseen ja viestintää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832-56D5-4492-97C5-303D70190878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liity-kohtia oli yli 100, näissä erityisesti sopeutumisen toimenpiteit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A7B-E1BB-4A27-89B7-05B3F703DC9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028-4D1E-4781-A82B-DF81339B461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i virastojen omia ympäristöohjel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559-4E79-4BF0-BF65-9FFCF4304E12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6B-63F8-44EA-8695-C53F5700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9BE-E3CD-4183-BD41-406A84D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04E-4775-4531-BF30-467EB1B6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22F-76BD-494E-AE22-9DBEBF2F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7F6-11CD-4833-B24B-22A61582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D645-B109-41AE-9B05-D0F43C94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D99-1A04-46EC-A3E8-9F4B769C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9A2-5999-439E-8557-E1CD9F33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CD2B-2733-4ED4-855D-0591885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0EF7-EB71-4624-ABB9-1A1206D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2180-6A52-475C-8AFC-529A8C9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79C-8D0F-4B3C-87D6-6B0BADB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3268-8837-4205-8BB1-65DACCB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E4B4-04E5-4580-AD95-29BBC02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C9C-7708-489A-9605-0CF16F8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07EA-5EB2-4FD5-9E7B-D6F81487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AB78-49FA-4AF0-BA11-7594334B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990B-FA16-4794-A16E-3689FFC6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B270-BDA9-4FAD-9601-6A2A9BFC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BC93-F3C7-47DB-8602-AFFCA86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6E68-A253-41A0-8C7B-A19477ED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9A6E-2D94-4BA2-8BF9-9D436F2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F53-DB84-4BC1-820B-7F89DAD4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F173-36B4-4BD0-B3B9-98F7500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51B70-00CF-4415-AED7-E705CBE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5BED-8FA3-4C0A-8ED3-8719CA59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5B36-E7FF-438D-A91D-62E7469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603C-9806-454E-8603-DC2A5FDA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FF37-26C5-44A7-82A7-AD72579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6A50-F8D7-4582-B89A-7B65687D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2F0-3DEF-4291-A2B4-8C1BDF5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78D-49E1-4F0F-B66E-7719BFD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C3F-3E9B-4EA5-8CB8-057BFDA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E7F-2E93-4BFF-8E54-C5F5DB0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282-BA35-470F-A8A0-1B7FA03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D33-16CB-40D9-B4D8-D8051E4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B84-17D2-4CB0-A197-2D61BC24C89E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28" b="1408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E47E-48E3-4DB2-B750-1A946F23E5A1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3CF7-CC2D-4A92-9E30-3D7CC8CFE05A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fi.opasnet.org/fi/Etusivu" TargetMode="External"/><Relationship Id="rId2" Type="http://schemas.openxmlformats.org/officeDocument/2006/relationships/hyperlink" Target="http://fi.opasnet.org/fi/Helsingin_ilmastonmuutos_-tiekartta" TargetMode="External"/><Relationship Id="rId3" Type="http://schemas.openxmlformats.org/officeDocument/2006/relationships/hyperlink" Target="http://fi.opasnet.org/fi/Helsingin_ohjelmalliset_energiatehokkuus-_ja_ilmastotoimenpiteet_ja_-tavoittee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lsingin ilmastopolitiikan tavoitteiden ja toimenpiteiden tunnistaminen Opasnet-alusta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8fa71f"/>
                </a:solidFill>
                <a:latin typeface="Arial"/>
              </a:rPr>
              <a:t>Sonja-Maria Ignati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8fa71f"/>
                </a:solidFill>
                <a:latin typeface="Arial"/>
              </a:rPr>
              <a:t>23.2.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ä teh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avoitteiden ja toimenpiteiden list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trategiat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41 tavoit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hjelmata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17 tavoit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662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sa-alu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Kaavio 9" descr=""/>
          <p:cNvPicPr/>
          <p:nvPr/>
        </p:nvPicPr>
        <p:blipFill>
          <a:blip r:embed="rId1"/>
          <a:stretch/>
        </p:blipFill>
        <p:spPr>
          <a:xfrm>
            <a:off x="417600" y="1001880"/>
            <a:ext cx="7518240" cy="5224320"/>
          </a:xfrm>
          <a:prstGeom prst="rect">
            <a:avLst/>
          </a:prstGeom>
          <a:ln w="0">
            <a:noFill/>
          </a:ln>
        </p:spPr>
      </p:pic>
      <p:sp>
        <p:nvSpPr>
          <p:cNvPr id="162" name="Tekstiruutu 10"/>
          <p:cNvSpPr/>
          <p:nvPr/>
        </p:nvSpPr>
        <p:spPr>
          <a:xfrm>
            <a:off x="5796000" y="58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hin tavoitteeseen toimenpide liitty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Kaavio 6" descr=""/>
          <p:cNvPicPr/>
          <p:nvPr/>
        </p:nvPicPr>
        <p:blipFill>
          <a:blip r:embed="rId1"/>
          <a:stretch/>
        </p:blipFill>
        <p:spPr>
          <a:xfrm>
            <a:off x="128520" y="725400"/>
            <a:ext cx="87426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hin vaikutukset kohdistuv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älittömät päästö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älilliset päästöt (elinkaarivaikutuks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opeutumi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uom. Toissijaiset vaikutukset (ei tarkastelt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rve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l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sa-ar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ankäytt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Kaavio 3" descr=""/>
          <p:cNvPicPr/>
          <p:nvPr/>
        </p:nvPicPr>
        <p:blipFill>
          <a:blip r:embed="rId1"/>
          <a:stretch/>
        </p:blipFill>
        <p:spPr>
          <a:xfrm>
            <a:off x="488880" y="714240"/>
            <a:ext cx="7878960" cy="6842160"/>
          </a:xfrm>
          <a:prstGeom prst="rect">
            <a:avLst/>
          </a:prstGeom>
          <a:ln w="0">
            <a:noFill/>
          </a:ln>
        </p:spPr>
      </p:pic>
      <p:sp>
        <p:nvSpPr>
          <p:cNvPr id="168" name="Tekstiruutu 4"/>
          <p:cNvSpPr/>
          <p:nvPr/>
        </p:nvSpPr>
        <p:spPr>
          <a:xfrm>
            <a:off x="6119640" y="6278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6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6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Kuka toteuttaa toimenpi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Kaavio 6" descr=""/>
          <p:cNvPicPr/>
          <p:nvPr/>
        </p:nvPicPr>
        <p:blipFill>
          <a:blip r:embed="rId1"/>
          <a:stretch/>
        </p:blipFill>
        <p:spPr>
          <a:xfrm>
            <a:off x="488880" y="425520"/>
            <a:ext cx="8454960" cy="5933880"/>
          </a:xfrm>
          <a:prstGeom prst="rect">
            <a:avLst/>
          </a:prstGeom>
          <a:ln w="0">
            <a:noFill/>
          </a:ln>
        </p:spPr>
      </p:pic>
      <p:sp>
        <p:nvSpPr>
          <p:cNvPr id="171" name="Tekstiruutu 7"/>
          <p:cNvSpPr/>
          <p:nvPr/>
        </p:nvSpPr>
        <p:spPr>
          <a:xfrm>
            <a:off x="108000" y="57261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N=728 (samalla toimenpiteellä voi olla useampi toteutta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simer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suntokanta energiatehostuu.” (strategiaohjel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avoitteeseen liittyy 47 toimenpidett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9 yritysten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37 kaupungin toimenpidet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n 1 asukkaiden toimenp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et toiminnak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tavoitteita on asetett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vatko kullakin tavoitteella toimenpiteitä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Onko toimenpiteitä, joille ei ole tavoitteit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simer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sätään yhteiskäyttötiloja, jolloin pienempi määrä asuinneliöitä riittää henkeä kohti (P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tehokkuuden varmentaminen rakennushankkeen aikana: Päivitetään taloteknisten osajärjestelmien viitearvot (Tilakeskuksen y.ohje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ergiansäästötoimenpiteet käytön aikana (olemassaoleva rakennuskanta): Toteutetaan energiakatselmuksissa havaitut tarkoituksenmukaiset toimenpiteet (HE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et erilaisia, mutta osittain päällekkäisiä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on tapahtunut vanhemmille tavoitteille ja toimenpiteil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issä ei ole kunnolla tunnistettu tärkeää mahdollisuutta ottaa asukas toimenpiteiden keskiöön toimijak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-&gt; Kaupunki voisi ottaa asukkaan ja organisaatioiden omia valintoja tukevan, edistävän ja mahdollistavan rool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Pitäisi järjestelmällisesti pyrkiä yksittäisten toimenpiteiden vaikuttavuuden ja kustannustehokkuuden arviointiin ja tämän tiedon käyttöön priorisoinnis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eurannan kehittämin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tä et voi mitata, sitä et voi johtaa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Toimenpiteitä voi olla hyödyllistä vertailla keskenään. Ilmastopolitiikan hallittavuus paranisi jos olisi vähemmän ja selkeämpiä suunniteltuja toimenpiteitä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Jokainen ”toimiala” voisi käydä läpi omat toimenpiteensä, selkeyttää ja tiivistää niitä ja etsiä mahdollisia synergioita muiden kans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Johtopäätöks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Elintarvikkeisiin liittyviä toimenpiteitä vähä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Nyt tehty toimenpide- ja tavoitetarkastelu laajasti jatkosuunnittelun pohjaksi kaupungil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-&gt; toiminnan vaikuttavuuden arviointi ja kytkös budjettisuunnitteluu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Opas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73360"/>
            <a:ext cx="7043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Verkkosivusto, jonka tarkoituksena on parantaa yhteiskunnallista päätöksentek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Avoimet arvioin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Yhteinen ja avoin työ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Systemaattinen informaatioraken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eskustelut ja erimielisyyksien selvittäminen onnistu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ateriaal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fi.opasnet.org/fi/Etusi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.opasnet.org/fi/Helsingin_ilmastonmuutos_-tiekart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.opasnet.org/fi/Helsingin_ohjelmalliset_energiatehokkuus-_ja_ilmastotoimenpiteet_ja_-tavoitteet#Vast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Tiedosto:Tiedonkulku avoimessa päätöksentekokäytännössä.png"/>
          <p:cNvPicPr/>
          <p:nvPr/>
        </p:nvPicPr>
        <p:blipFill>
          <a:blip r:embed="rId2"/>
          <a:stretch/>
        </p:blipFill>
        <p:spPr>
          <a:xfrm>
            <a:off x="209520" y="981000"/>
            <a:ext cx="8934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et toiminnak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hin ylätason tavoitteeseen toimenpide liitty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uka toteuttaa toimenpite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Mihin kohteeseen pyritään vaikuttamaan (tässä sekä hillintä että sopeutuminen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Kustannuks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sp>
        <p:nvSpPr>
          <p:cNvPr id="141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18.8.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</a:rPr>
              <a:t>Jari Viin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28B-477A-4DF3-942F-BA172FAB7329}" type="slidenum">
              <a:rPr b="0" lang="fi-FI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Ilmastonsuojelun toteutuminen 1 08092014.jpg"/>
          <p:cNvPicPr/>
          <p:nvPr/>
        </p:nvPicPr>
        <p:blipFill>
          <a:blip r:embed="rId2"/>
          <a:stretch/>
        </p:blipFill>
        <p:spPr>
          <a:xfrm>
            <a:off x="0" y="-531720"/>
            <a:ext cx="985212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erveyden ja hyvinvoinnin laitos"/>
          <p:cNvPicPr/>
          <p:nvPr/>
        </p:nvPicPr>
        <p:blipFill>
          <a:blip r:embed="rId1"/>
          <a:stretch/>
        </p:blipFill>
        <p:spPr>
          <a:xfrm>
            <a:off x="0" y="3971880"/>
            <a:ext cx="5753160" cy="1066680"/>
          </a:xfrm>
          <a:prstGeom prst="rect">
            <a:avLst/>
          </a:prstGeom>
          <a:ln w="0">
            <a:noFill/>
          </a:ln>
        </p:spPr>
      </p:pic>
      <p:pic>
        <p:nvPicPr>
          <p:cNvPr id="146" name="Kuva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900600" cy="1549440"/>
          </a:xfrm>
          <a:prstGeom prst="rect">
            <a:avLst/>
          </a:prstGeom>
          <a:ln w="0">
            <a:noFill/>
          </a:ln>
        </p:spPr>
      </p:pic>
      <p:pic>
        <p:nvPicPr>
          <p:cNvPr id="147" name="Kuva 7" descr=""/>
          <p:cNvPicPr/>
          <p:nvPr/>
        </p:nvPicPr>
        <p:blipFill>
          <a:blip r:embed="rId3"/>
          <a:stretch/>
        </p:blipFill>
        <p:spPr>
          <a:xfrm>
            <a:off x="6372360" y="3645000"/>
            <a:ext cx="2085840" cy="150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www.uef.fi"/>
          <p:cNvPicPr/>
          <p:nvPr/>
        </p:nvPicPr>
        <p:blipFill>
          <a:blip r:embed="rId4"/>
          <a:stretch/>
        </p:blipFill>
        <p:spPr>
          <a:xfrm>
            <a:off x="5292720" y="2133720"/>
            <a:ext cx="3691080" cy="744480"/>
          </a:xfrm>
          <a:prstGeom prst="rect">
            <a:avLst/>
          </a:prstGeom>
          <a:ln w="0">
            <a:noFill/>
          </a:ln>
        </p:spPr>
      </p:pic>
      <p:sp>
        <p:nvSpPr>
          <p:cNvPr id="149" name="Tekstiruutu 1"/>
          <p:cNvSpPr/>
          <p:nvPr/>
        </p:nvSpPr>
        <p:spPr>
          <a:xfrm>
            <a:off x="550800" y="56149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Nordem 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ita es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Kaupunkilaiset ja kaupungin työntekijät ovat sitoutuneita ympäristöpolitiikan tavoitteisiin. ”(y.po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Helsinki on tunnettu ympäristöviisas vihreän talouden kaupunki. Resurssitehokkuus paranee sekä omassa toiminnassa että yhteistyössä yritysten ja tutkimuslaitosten kanssa.” (strateg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avoitteita es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Linja-autoliikenteen kalustoa ja kaupungin muuta ajoneuvokalustoa sekä työkonekantaa uudistetaan vähemmän polttoainetta kuluttavaksi ja vähäpäästöisemmäksi.” (e.pol.linj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3000" spc="-1" strike="noStrike">
                <a:solidFill>
                  <a:srgbClr val="000000"/>
                </a:solidFill>
                <a:latin typeface="Arial"/>
              </a:rPr>
              <a:t>Energiatehokkuus on parantunut vähintään 20 % vuoteen 2020 (mittarina asukaskohtainen energiankulutus, vertailuvuosi 2005.” (y.po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ineisto: Strategiat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strategiaohjelma 2013-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ympäristöpolitiik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Arial"/>
              </a:rPr>
              <a:t>Helsingin kaupungin energiapoliittisia linjauk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Aineisto: Ohjelmat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Sustainable Energy Ac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Ympäristötavoitetaulu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KS ilmastostrategia 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rhaat energiatehokkuuskäytännöt (P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lsingin 30 % päästövähennysselv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BaltCica-loppurapor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Helsingin ilmastonmuutokseen sopeutumisen toimenpiteiden prioris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9:40:52Z</dcterms:created>
  <dc:creator>Ignatius Sonja-Maria</dc:creator>
  <dc:description/>
  <dc:language>en-US</dc:language>
  <cp:lastModifiedBy>Ignatius Sonja-Maria</cp:lastModifiedBy>
  <dcterms:modified xsi:type="dcterms:W3CDTF">2015-02-23T12:59:36Z</dcterms:modified>
  <cp:revision>146</cp:revision>
  <dc:subject/>
  <dc:title>Tiekart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